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755E-4AF1-4BE0-963F-57C35A3D3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7CE5-0C07-4479-A8D6-F17125199C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9030-26F2-41FB-B9BA-7BCC178736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075C-27A2-4831-9FBD-1950040637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1C4E-BB0D-488A-B48E-11CAE87893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EABA-7617-44A7-96D0-38B732AA81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F812-4F55-470C-BAB4-AB821145A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D922-5C8C-44DD-BE6D-38078AB064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40D-1BC9-4099-AED9-4E30517344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F284-C0EC-4DA5-B297-3B888BFF7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817-777A-4462-9E99-6667125D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F3D-203A-4727-8EA0-8EF8DA9F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597-4C69-442B-AA6A-EC35E756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FC8-C2D1-49D4-A4FE-CA4DCB7B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A98-08EA-4444-825D-1BFCD46D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C2E-C697-422D-BDC8-9E8B608B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961-83BD-483F-BA70-70D41E27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69D-E79D-48C2-9541-DB1EACDC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29E-5026-4FF3-8FB7-5E5110E4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10D-01E5-418C-8432-A093C4A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C71-7E08-4F5C-801C-6FFA3F19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795-828A-4CB4-915B-AD80096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C5AB-5A30-4BFB-9EB2-58F1C1982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rammar.ccc.commnet.edu/grammar/quizzes/nova/nova4.htm" TargetMode="External"/><Relationship Id="rId2" Type="http://schemas.openxmlformats.org/officeDocument/2006/relationships/hyperlink" Target="http://grammar.ccc.commnet.edu/grammar/cgi-shl/quiz.pl/run-ons_add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omma Splices and Run-On Sentence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520" y="54860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: Jaclyn Hudak, Tanya Mazsa, and Alex Shu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omma Splic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ef): a comma splice consists of two _______________connected with a 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133720" y="3048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cl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349360" y="3557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Run-On Sentenc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def): a run-on sentence combines two independent clauses with no __________ or 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438280" y="3513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952880" y="35132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ays to Correct Mistake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fbbfa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a __________ (such as “and” or “because”) between the cla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fbbfa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tween the cla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fbbfa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clauses into 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fbbfa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imes add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__________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58128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719520" y="2809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co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562720" y="3733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sent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5029200" y="48020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col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2576520" y="526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ctive ad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xample On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down-pouring outside, make sure you bring an umbrel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down-pouring outside, so make sure you bring an umbrel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676520" y="4800600"/>
            <a:ext cx="6858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a conjunction between the two cl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xample Two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teach you how to ride a bike, you must learn the basics first to make it eas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teach you how to ride a bike; you must learn the basics first to make it eas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28800" y="4800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 semicolon between the clau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xample Thre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vid seems happy at his point in life he never seems to encounter many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vid seems happy at his point in life. He never seems to encounter many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8288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run-on sentence into two separate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xample Four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people enjoy watching scary movies, however, others prefer funny mov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people enjoy watching scary movies; however, others prefer funny mov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752480" y="4952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 semicolon with a conjunctive ad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Activities!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 Spl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http://grammar.ccc.commnet.edu/grammar/quizzes/nova/nova4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-On Sen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http://grammar.ccc.commnet.edu/grammar/cgi-shl/quiz.pl/run-ons_add2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5:52:16Z</dcterms:created>
  <dc:creator>Parkland High School</dc:creator>
  <dc:description/>
  <dc:language>en-US</dc:language>
  <cp:lastModifiedBy>test</cp:lastModifiedBy>
  <dcterms:modified xsi:type="dcterms:W3CDTF">2011-10-04T19:29:50Z</dcterms:modified>
  <cp:revision>5</cp:revision>
  <dc:subject/>
  <dc:title>Comma Splices and Run-On Sentences</dc:title>
</cp:coreProperties>
</file>